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4A1-8DAB-4351-A970-42D565F3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711E-5BC1-4D91-BAB3-1B36121F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584-CC29-4C4B-B7D8-8B5145BD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0600-DC6F-4339-ADD0-780D06D4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18B-9E55-4661-A852-850D1C30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A842-1A04-442E-9E91-9B183BC8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A1E-3071-4BC8-9E9E-5208DCCE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7A25-1645-4213-A3AA-AFD47B77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B853-F7AA-4CCB-A4BF-FC515FF0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384C-0D7A-4251-AC8A-63E6F60F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40C1-C97D-422B-BE5C-A5C61D61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91BE-8AF0-4785-9367-A78DB57F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AF52-715A-4162-8CE9-AA876FA11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for students 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d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rson-Prentice H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Douglas Bell and Mike Par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ckground to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istory of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0s FORTRAN, CO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0s ALGOL 60, CPL, BC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0s C,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0s 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0s Java (Oa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Features of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similar to 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ble – can be run on any compi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applets are written to be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 has some advisories about Java Apple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 allows for free down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rs are free and Java enab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progr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 (see shampoo bott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sical 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mputer obeys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/outpu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 to user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ers select from a list of possible instructions that carry out a specif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3123720"/>
            <a:ext cx="830592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c – repeats possible, provides a notation for composer where/when to do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sections may need to be repeated and notation provides for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asks – some recipes need tasks to be done before main task may be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btasks) may be called by main method or another method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gram may consist of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y-made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you write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6:18:32Z</dcterms:created>
  <dc:creator>ITS</dc:creator>
  <dc:description/>
  <dc:language>en-US</dc:language>
  <cp:lastModifiedBy>ITS</cp:lastModifiedBy>
  <dcterms:modified xsi:type="dcterms:W3CDTF">2005-04-26T16:18:45Z</dcterms:modified>
  <cp:revision>1</cp:revision>
  <dc:subject/>
  <dc:title>Java for students 4th Edition Pearson-Prentice Hall by Douglas Bell and Mike Parr</dc:title>
</cp:coreProperties>
</file>